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653FDE-D0B2-4FB9-B12A-1EE4B9DDC7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300D76C-8690-4824-B2B9-616091DEBDA4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Zadatak preventivne ortopedije je da stvori optimalne uslove za pravilan razvitak organa za žvakanj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RS" sz="1200" spc="-1" strike="noStrike">
                <a:solidFill>
                  <a:srgbClr val="000000"/>
                </a:solidFill>
                <a:latin typeface="Arial"/>
              </a:rPr>
              <a:t>Zadatak interceptivne ortodoncije je da koriguje ili zaustavi formiranje ortodontstkih nepravilnosti u njihovom početnom stadijum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7C3071-23F6-4A2A-8B91-D17A55DDCA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91BFDBE-9B14-470E-B0BB-0372AF21B8D6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D97220-80CA-4DF6-A114-7779410C5E6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3319C4-9736-45F5-B42A-3C79E1B481BE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613CEA7-9AA1-4064-ADE3-C3FEB8E37E6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572EFB-D98C-4AAB-B14E-94EF9C64BF0A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2462A4-139C-435E-9B0A-9921C966F7D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F4A285-8D7C-48FC-8072-CFC1DBA2879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DF01C1-D147-4EE4-8478-208EAB943190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678608-AC35-4710-B438-6C6AF54159F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FF1F02D-23D2-4656-BAA5-AB392D67209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R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3E2C-4743-4B25-A4BE-20CB2BC4E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B7CF4-A876-4F62-B43E-0544010B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786E7-06C1-4351-9177-97AE4B921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073FA-2C00-44FD-8808-3CCF367238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709BE-B9A3-4A75-A43D-15A990290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E6D54-2D57-4DDF-A469-A3FE9C7B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92C-9C94-4DAE-A501-769C75E8C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7F066-50ED-4FD0-9E05-91DB5A85A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12D8A-5520-4A32-AE6B-6FFA5B419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A1D12-2B7A-4C01-A659-040609C4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11D-F520-4DD8-9D62-54A3E9B7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6AE1-69DF-41E1-A709-DD9C3057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ECC518B-42E7-45CC-B1EF-D2A04609EE13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800" spc="-1" strike="noStrike">
                <a:solidFill>
                  <a:srgbClr val="ffffff"/>
                </a:solidFill>
                <a:latin typeface="Trebuchet MS"/>
              </a:rPr>
              <a:t>ORALNO ZDRAVLJE U TRUDNOĆI</a:t>
            </a:r>
            <a:endParaRPr b="0" lang="en-US" sz="48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4" name="Picture 11" descr=""/>
          <p:cNvPicPr/>
          <p:nvPr/>
        </p:nvPicPr>
        <p:blipFill>
          <a:blip r:embed="rId2"/>
          <a:stretch/>
        </p:blipFill>
        <p:spPr>
          <a:xfrm>
            <a:off x="1539720" y="1814400"/>
            <a:ext cx="1219320" cy="1003320"/>
          </a:xfrm>
          <a:prstGeom prst="rect">
            <a:avLst/>
          </a:prstGeom>
          <a:ln w="0">
            <a:noFill/>
          </a:ln>
        </p:spPr>
      </p:pic>
      <p:sp>
        <p:nvSpPr>
          <p:cNvPr id="55" name="Rectangle: Rounded Corners 8"/>
          <p:cNvSpPr/>
          <p:nvPr/>
        </p:nvSpPr>
        <p:spPr>
          <a:xfrm>
            <a:off x="9596520" y="138240"/>
            <a:ext cx="23065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14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Prvi trimestar je predviđen za edukaciju i uzimanje status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Poželjno je zakazivati trudnicu u poslepodnevnim satima zbog problema s mučninom i povraćanjem koji su najčešći tokom jutr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PRVI TRIMESTAR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Izvođenje kurativnih zahvata kao što su ispuni, endodontski zahvati i manji hirurški zahva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DRUGI TRIMESTAR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39720" y="2101680"/>
            <a:ext cx="927756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U ovom je periodu moguće je raditi RTG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Treći trimestar je bitan jer možemo trudnicu edukovati o preventivnim merama koje će preduzeti oko oralnog zdravlja deteta koje se tiču ishrane i higij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TREĆI TRIMESTAR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Oralno zdravlje i kontrola oralnih bolesti štiti zdravlje trudnice i njen kvalitet života kroz trudnoću, a glavni je potencijal u tome i redukcija prenosa patogenih bakterija na det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7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ZNAČAJ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rudnoća nije razlog za zanemarivanje oralne higijene. Uz pravilno provođenje higijene, rizik za pojavnost karijesa ili infekcije može se svesti na minimum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Mučnina i povraćanje u prvom trimestru trudnoće i onemogućuju trudnici provođenje oralne higijene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ORALNO ZDRAVLJE U TRUDNOĆ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0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Voditi zdrav život izuzetno je važno jer se najkritičniji periodi razvoja fetusa, pa tako i razvoja oralne šupljine događaju u prvih nekoliko nedelja trudnoće kada trudnica možda niti ne zna da je trudna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ORALNO ZDRAVLJE U TRUDNOĆI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romene u usnoj šupljini nastaju usled delovanja hormona estrogena i progesteron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ingivit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Parodontitis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Granuloma pyogenicum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Karijes,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spcBef>
                <a:spcPts val="1125"/>
              </a:spcBef>
              <a:buClr>
                <a:srgbClr val="ffffff"/>
              </a:buClr>
              <a:buFont typeface="Calibri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DEJSTVO HORMO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Ishrana trudnice direktno će delovati i na zdravlje usne šupljine detet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Belančev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Ugljeni hidra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Mast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Vitamin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1039680" indent="-44604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Mineral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ISHRA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fffff"/>
                </a:solidFill>
                <a:latin typeface="Trebuchet MS"/>
              </a:rPr>
              <a:t>Pribor za higijenu usne šuplji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Tehnika pranj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7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HIGIJEN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Rad u oralnoj šupljini je podeljen po trimestrima trudnoć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ZAHVATI TOKOM TRUDNOĆ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10"/>
          <p:cNvSpPr/>
          <p:nvPr/>
        </p:nvSpPr>
        <p:spPr>
          <a:xfrm>
            <a:off x="639720" y="2101680"/>
            <a:ext cx="7399440" cy="470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2800" spc="-1" strike="noStrike">
                <a:solidFill>
                  <a:srgbClr val="f9a12a"/>
                </a:solidFill>
                <a:latin typeface="Trebuchet MS"/>
              </a:rPr>
              <a:t>Rad u oralnoj šupljini je podeljen po trimestrima trudnoć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100000"/>
              </a:lnSpc>
              <a:spcBef>
                <a:spcPts val="1749"/>
              </a:spcBef>
              <a:buClr>
                <a:srgbClr val="f9a12a"/>
              </a:buClr>
              <a:buFont typeface="Trebuchet MS"/>
              <a:buChar char="•"/>
              <a:tabLst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3"/>
          <p:cNvSpPr/>
          <p:nvPr/>
        </p:nvSpPr>
        <p:spPr>
          <a:xfrm>
            <a:off x="417600" y="474840"/>
            <a:ext cx="1153296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pl-PL" sz="4300" spc="-1" strike="noStrike">
                <a:solidFill>
                  <a:srgbClr val="ffffff"/>
                </a:solidFill>
                <a:latin typeface="Trebuchet MS"/>
              </a:rPr>
              <a:t>ZAHVATI TOKOM TRUDNOĆ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9:47:41Z</dcterms:modified>
  <cp:revision>518</cp:revision>
  <dc:subject/>
  <dc:title>RTG U DEČJOJ STOMATOLOGIJI</dc:title>
</cp:coreProperties>
</file>